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BE3-47DA-4721-8F5E-8B1B404B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99C-21CA-4D73-9F7D-51173682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4BD8D-8867-468C-A607-C3CFB4A2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48879-377F-44B6-BB0D-3BB7F4E2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A3A69-769D-4F8E-AECD-F2DF2F5A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E21CAF-BB10-4250-8597-2343B29C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8CF55E-B7A5-464C-B089-4012D1E7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6962A-795B-434B-BE73-96DEBC7A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3A64F-B4A8-45E9-9406-425E7989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1E50A-6926-4271-AFA8-AC2BF6FA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0B581-C906-4632-8832-D8378C05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604C7-8F54-4C0D-A850-01F87E26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37D0-74AD-4829-82BA-CD56394B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7D022-DE80-4C99-B081-2AD5A57D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0B1CF-40EF-48AF-A013-D7B3E19B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391E2-4FF7-48AB-A4AB-4A5F5A3C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8F1A1-5D06-4A9E-9734-E87535D9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4B839-E63F-4399-BFDC-A25B36E8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BAA23-8834-47D6-AC16-6395FE1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11C86-0117-4F1D-AE36-4701C988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AA224-0260-4FCF-95EA-51060EC3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AE7A3-F628-4518-8CE9-049C3537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7EAAB-F2F2-4D08-B75D-DF86C525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480-6CF0-428E-A181-0DC51589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03A3B-E6E7-4DA0-BA07-469BE9EA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19EA6-7ADC-43B1-826E-8BA183F9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1477E-58D0-4618-899C-4DC433A4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B10C2-94F3-49D6-99F3-3655A96E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90AD5-6ECD-4203-A304-4EE12734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F19FB-6A7B-4DDA-B3AE-29F6A0BB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7C31B-4834-4F9E-BB03-9D3028ED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D7431-4587-4347-BCCD-A7CEB8D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2C373-F03E-49EB-B492-83500227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A8E3A-42F6-471E-869B-D748A5B7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9DAB-C53A-4ED1-8B7A-12C70880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F7DC7-FDBC-49FA-ACDA-5EAE0A83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21D38-6365-487F-9F8F-893DC2EC2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FF8F8D-317E-48BE-99D6-D48B155B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A9115-3F10-4DA7-8829-369C8BBF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89894-1782-4EB2-9B0A-3A1823E5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1E08D-AABA-42BC-9945-339ACF51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8D84EE-A6F4-4CCA-A28E-65E3E62A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FA112D-FC8A-4E41-9610-511F35AD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6E023-0F02-4206-9A4F-97EAD451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C9BFD-F8A0-4167-BB95-804E9398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1ADB-4741-4849-91C4-AF2ADFC3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D14D1-8D19-4F7A-AA3A-55A6D458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31B44D-E1C0-4357-88A3-60802F2A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66D9D-15B4-439F-9627-98869ED8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62F0C-CBA2-400D-9AFE-CCA67E19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057B6-AA11-4CA7-B984-835F5D33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2789AD-B68C-4E89-8D07-C3EF2AD7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92C267-40E2-49BE-8D1F-791AFD48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38730-60EC-4BA9-BBC2-D8C16055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0E817-5EE2-40C8-AA9A-700D99B1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57742-9B37-421B-8890-5EFF4415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3BCC-7776-4F2D-90DA-B79344FB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23A54-803E-4115-B40A-1E650B0C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8E15B-BD8F-425A-8E75-F03F3168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D1849-1DDC-40F2-8F9E-C1EC980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2F1E2-5E38-4930-B0D9-46BEE93C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4DE0E-8C3A-46F7-A99F-7148CC08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12F2A-75DB-4DDD-A70D-688BBFA4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5C3E6-5DCE-4A7E-A95B-141F75DCC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E529D-A46F-4486-BD7B-964D5678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125561-BB25-4EEE-ABCA-B9D61E25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E8506-5C8F-47CF-85B0-4F87B2D5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D47D-0DBB-4488-B6EF-26F6DB22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E6B94-AADA-4B76-BE74-CF43BDF6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9E97A-C32F-4C75-AFD0-667AB567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39D92-487F-46C3-8307-9B528C24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FC60C-51AA-4433-AA02-7B295781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E942EF-E2E0-4F06-9588-F4CCF3FB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A95BE-647E-4EA9-A38F-47A615F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AE7F7-4F16-4594-AB2D-5BE426C1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2A905-9EEB-4D37-820B-377877C6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CAAFEF-DF4E-46EA-BC05-7020FD35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E0CDC4-98C0-4E8C-A9BC-61A04E08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536D-A4C4-4EE1-A5AA-E2F0DEE1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0B376-69F9-4A5F-9560-CE824F48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58FFD9-AB39-4BB6-B034-ED0DA3F5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31267-124A-43E0-853D-9466B2527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ED3AA-BB7B-47D0-8A9A-974C3829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4D6F4-2A74-45D5-AEC2-034AB2D9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09EF0-5A92-4D64-BBCE-976F01DC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D61B8-3EF1-4D6A-87EC-22E65407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305C5F-76A8-4E8C-B225-88324AFF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AD253E-14E4-40CE-B52D-C10471A3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6681B-7A87-42A9-BF89-8A8DC7DA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9E33-0326-4539-8E4C-3D4927A4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EAC46-F646-4FD3-A882-56607C7F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E980C-9997-4E7E-B941-638E60A7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2D607-958A-4B97-AEAA-91C5DEF1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6DEA74-32D7-4E7D-BE3D-ACFFC68A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05BC9F-6CE4-430D-8C60-385EC0AC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9D8CB0-CE04-42AD-B6FA-93D55E24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29DD8-B984-4763-80FE-1790375E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061C90-116F-482D-8D3B-3C1FA375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44833-B84D-430A-968D-C466699D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682210-829C-4757-A02D-FD647185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FDFD-E2C0-4E2F-8FD2-A7429BC8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77B00-D17A-410B-9A64-CC0D5707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6916F-ED38-4609-864A-68B2541F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A8235-5F62-4A7A-8DD0-21DA2C03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61CBB-EB54-46EE-953F-26F48E05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C004C4-99A6-42C3-9695-2352E13D5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CD9B20-A498-4698-A265-98B227C1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4BADA0-5A34-434B-B03A-2EF17D4A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C4A21-B072-4272-988D-17130EEA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3850E-545A-4679-847B-FB210BC1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FAF77D-E238-4A94-A885-839DB524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FA43-A761-4D3E-9893-62D06190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E5D1-7740-4619-B547-696EA771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AD8B83-727E-4A54-8C04-09ACEF3A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75941-F863-4C19-84E0-D1512B06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55ACA-AC3D-41F7-BB50-6D28F4F3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77734E-FD2C-42CB-A9CB-2B339097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4A4A4A-A0B0-451C-B172-56302974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5E8F4-F922-4794-85C3-B5917953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CED48F-3F7F-44EB-ABCE-F4AD74D8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0A7CFB-BB93-49E2-BF41-26DC0BB5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5B608-7F8C-4417-A909-81E33693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6E3497-C44F-466C-9436-44DD55F4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1DBE-4169-4CE3-8EE1-BF654685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B78FBE-1632-4E3A-9D66-2774EADD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1FD544-0D58-4A94-B297-D729C289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8CBA6D-A156-4CFD-8A6D-ED3C9DE7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0232D-62C5-40ED-9CA6-F8E33BBA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E363CC-FC17-4F12-9A85-844D6943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0418C8-2DC1-4577-9E2A-3FC1142A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0A37E-BC15-459C-97D7-2D13502A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B10DBD-1544-4A9D-8DA5-6CA334F3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8D5B26-ECAF-4BAD-B900-7A029FDE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674BA-09BF-49E8-9367-532C0FDC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4426-0958-4055-A988-ADC7242B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700C4C-9CF5-492A-B61D-7DEC384B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368BD9-93DD-496F-B053-236CE3EB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F551E-DBB0-47FB-98B1-E7568E4F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37B84-8E09-4D08-ADD9-DC702E67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1A1130-8BB4-4727-B784-EEBB8718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88A458-A134-49F6-A3B7-CF8D4940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DFE6C9-14B2-4D3A-816E-E51382FB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2FE7CB-F924-40A9-8B5B-7F3F574F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8386E9-E9C6-478A-A46B-E83E524E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58EA8F-11C8-44AF-B327-438F6687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0539-988C-419A-AD34-A4ACD3C8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55C409-B2DC-4017-A8BE-5851AB94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65C1F-FA50-4A83-B3E6-E514C1A7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8B95B-7E3A-4032-BCCE-47132463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080901-61B2-4DF3-812A-FA827148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33BD53-809E-4CCE-A503-B0342164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A03935-7B4B-4A93-8008-BDE1DE18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CAA6C9-BE15-49E5-A676-B5A935C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4AC1BD-F7C8-4120-A4CE-19554330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F6F221-41C2-418B-ACB7-187C1D38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92522D-7AF1-42DE-9DA0-64B997F6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1D17-5D8B-4D76-A525-BE2D0A7C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6A0A2C-3FA5-4878-AAB6-AF4F6362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F4412B-040E-46DD-B6D6-BA84C20C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F6C2D5-C87D-411E-9761-2F3E5381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53AAD8-41D7-43DE-91F4-2BD3F27B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453E90-819A-4F4F-80A2-F6A2C85B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DD6869-3E00-4136-A6F0-08AF91BB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4B28C4-C1EF-4BD7-946E-220D5BBA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ADE8C4-A852-418E-8608-8257F232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0DF39F-1EF7-4F96-A4B9-0E2700F1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7969AA-2951-42E4-8C02-3C754FEB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552B4-7E06-4D29-8C0C-C6A3B9AA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FDE256-92D6-4E55-8092-5D94B057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3A5B91-2221-4F51-952D-59B44BE79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6422F6-2953-489C-9D47-72C0D6A6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D929-11D7-48E6-8B4D-770F6B55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ACD56-C6C9-40DA-A17E-C56A5086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2A4A2-F82A-422B-9C19-5A39F856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A7C36-83D0-47B6-AC39-8C25A7F5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5E7-3697-4261-926A-7EB1ADF9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FB066-58CD-47BC-813D-6FB288FD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32EF4-3885-4BB7-B2F5-AD644D32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B933-4182-403E-83F4-A5A2FD56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6B37-9A8A-4609-B9E5-7940B63D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C985F-2C25-484F-8DBD-C94007EF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B13C-684E-4C63-9F7E-04DDE4A8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7FC0E-EC9D-4170-B522-D51E9B63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97FB1-9CB1-4700-9747-59548578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7E24C-50D3-472B-BD59-F2C37C9D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FBC09-E7AC-430F-86EA-8CB83138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5A7-0028-4323-AD06-5756776B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D010E-DFE3-40FE-B87F-44389465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9CA1C-2928-4247-9351-7BEDFE09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A67F4-D470-4715-8DF8-EE1AEA7A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713D-3263-4CC4-9E18-F42BB544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070FC-AB88-4D65-B1E5-8B80813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0AF08-A204-481B-BDC3-39ED0DD9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A5873-C5AB-4B29-B986-A9D14D96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5DA5-210B-417A-A94B-BFEF9EFB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C72AD-9F88-4BED-8B0F-D9712B28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A0A7-46BD-4EE9-A6F4-CB27EA64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2B5A-D116-4C34-BAE0-F3C8434D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441D2-429B-4A61-9A66-E2269165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0A168-E7E4-4AC9-B0F1-A6C331F2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740FB-B7F4-46B4-8F4D-319EDDA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CA91E-25B9-41AD-B425-602AC86A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774A0-BA02-4007-8EA8-790697E8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56DEA-1133-45A0-92B3-083322AC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89CC6-4D64-454B-ACB8-ABE03D70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A109B-5322-4391-A7E4-F6B47AA3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D6C75-2AA4-4251-B3E3-B3C20F3B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66BF5-1EE5-4964-A52E-397E580E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A421-5F66-4C74-BF4C-82D30EC8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23DC6-7489-4189-89E3-68F88B7C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6B25B-E7AF-4275-B566-7537DDE4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04FAF-B0DD-4682-8588-285C0491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35E82-A5F4-4666-AF47-10B461C9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C9CA4-490E-4ADE-B8AD-2C5844E0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8B4ED-4AE0-4D25-ADF4-30A522A4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C48D2-6715-4A01-9C03-F5F31C14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40948-C0CE-44F4-ACD4-96B239FB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7001A-E060-490C-BEFC-90F48728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8BB81-DF71-42B4-854E-0A3EBF6A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5162-7AB7-469C-B03A-A292C1B0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B519F-A79D-4975-B370-99A1CE12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3F4C8-8B95-4676-979D-C532D627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84BDD-10F9-4CFD-956A-630E5A225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A8856-4CD0-485F-9183-00E129FDB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7DF9C-ABE6-4CA3-85CE-DBA0FE0B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86515-508A-4C29-92C2-249E5A83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BBF86-B1E0-484F-8437-0BDB6078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0768E-1076-4FB5-B129-A72AA0D7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4DD61-FDFD-40E2-8E1A-D7461ED6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E1657-A881-462D-A42B-1AED83F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DCEB-DEA4-4D66-8470-273178C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B1EAF-3D1E-484C-9421-D5CCC3D2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3D9BB-8D40-4785-BA4B-43A896C1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E6E26-E79D-4F41-A057-ABDE255E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1A29E-0C32-4C3A-8ED4-D4FC3F70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2DF17-22B3-42D6-A6E2-FB83F96F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D0AA8-8E2F-4380-8EF6-E79A38C0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68106-B782-45EB-BCBA-92CF8B88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FBA2C-7C35-424F-8FC6-16D89B0A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574C1-2BEE-4A6E-87BC-C040E208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BF004-61FD-42A8-8FED-E11D5CD3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A3E-EE87-4EEE-8B37-63EC39DC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0B69F-FE71-47BF-A06F-78B2DCEB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8824A-581D-4FBB-8405-841F8C35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B6E12-CE6A-4158-ABAF-0023592C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C6F72-B67F-48E1-B102-730DA93A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6676C4-D62E-4F84-8027-3E907A8C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0F8E8-60B4-4FDD-8841-22C3BBEB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DE367-07E8-4623-94C6-C3C9471F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C102C6-F6FA-42FE-839F-9DC7E2533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93BC6-BE27-4FCA-B6B4-8B2FBE12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BEC2E-CB94-4DD6-81B7-B992AE68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D338-AC49-4158-8603-11EA8479D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3C8E-521A-42EC-9954-005B81CB6C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7EAE-78FF-4646-B014-FA077D023D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9EE1-4389-4117-BBD9-09FEEDF8B4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4730-CC10-4ED3-B2B2-E0502F30E7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D268-DF5C-40F7-A83A-75D86BDF4B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4B2B-88A2-4A20-ACBE-0B3ED91E7B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B4E4-5952-4BCB-8810-F767B2A8AF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7043-24D2-4DB1-A777-74BC864E9E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BDC8-D8FA-4558-81DD-4C06C4CAFD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47C9-30FF-482F-BC6F-1CB43AE101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F3DF-F5F9-492E-B745-F852904BE5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33C3-86EC-43BB-8E79-6C42E27059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5B36-5873-4D13-8A26-27ECF4D74D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5FB0-8759-4C14-A27E-0155C83470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4C7A-B73E-4AC7-9BA6-9F2B530597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A8F5-AC2F-4D09-9DA7-E5FEBC7A5C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5934-9C9D-4D20-81AC-F3B396F41E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31F2-E256-41FB-B389-1F3FE3EC2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0E03-0D1A-4C46-8D49-69290D6422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6F0D-9F36-4572-8B3F-DFDB5B652D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C884-C1B0-443C-BAA7-8F11C51AB6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1C32-8AD8-4F47-9E74-F200CB5EF5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A4EA-5F7F-4C0F-8485-CEB0B02095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99D4-8CBB-40E7-A29C-948A05D5CE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B528-3FF6-4F52-A6A7-64CFFF21C4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1024-0EEE-4C7C-992C-5EA62E4291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1A2C-132B-4C3F-81C2-75CE42E56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987E-120B-42D2-91DA-5A11775969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83C0-C864-4818-B7EA-C0763C6DFA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90B4-48CF-4226-BF97-99ABA72D42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DF2F-18DB-42D9-888B-23BC3A23E8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F765-7C81-43F5-8A43-7C76437C03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8224-F345-4CE2-B3FE-440A0A3EC2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64B1-46C0-4640-90BA-E72960BB6A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6E25-D0BB-4212-BA1C-4E90F7B5A5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8AC-F419-45C5-94F6-0D41D86C89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BCAE-117C-49B8-BFDA-4B7B1CD4F1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B5C7-8F89-41E1-8DFD-2510C1C705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4987-5651-40F5-8962-8AEF404586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319040" y="3110040"/>
            <a:ext cx="650592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290520" y="1052640"/>
            <a:ext cx="8562960" cy="54482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2"/>
          <a:stretch/>
        </p:blipFill>
        <p:spPr>
          <a:xfrm>
            <a:off x="1717560" y="4646520"/>
            <a:ext cx="167328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6" name="Picture 1" descr=""/>
          <p:cNvPicPr/>
          <p:nvPr/>
        </p:nvPicPr>
        <p:blipFill>
          <a:blip r:embed="rId1"/>
          <a:stretch/>
        </p:blipFill>
        <p:spPr>
          <a:xfrm>
            <a:off x="785880" y="747720"/>
            <a:ext cx="7702560" cy="6072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"/>
          <p:cNvPicPr/>
          <p:nvPr/>
        </p:nvPicPr>
        <p:blipFill>
          <a:blip r:embed="rId2"/>
          <a:stretch/>
        </p:blipFill>
        <p:spPr>
          <a:xfrm>
            <a:off x="785880" y="2654280"/>
            <a:ext cx="5557680" cy="39204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5" descr=""/>
          <p:cNvPicPr/>
          <p:nvPr/>
        </p:nvPicPr>
        <p:blipFill>
          <a:blip r:embed="rId3"/>
          <a:stretch/>
        </p:blipFill>
        <p:spPr>
          <a:xfrm>
            <a:off x="411120" y="3139920"/>
            <a:ext cx="5556240" cy="3924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5" descr=""/>
          <p:cNvPicPr/>
          <p:nvPr/>
        </p:nvPicPr>
        <p:blipFill>
          <a:blip r:embed="rId4"/>
          <a:stretch/>
        </p:blipFill>
        <p:spPr>
          <a:xfrm>
            <a:off x="393840" y="3625920"/>
            <a:ext cx="5557680" cy="392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5" descr=""/>
          <p:cNvPicPr/>
          <p:nvPr/>
        </p:nvPicPr>
        <p:blipFill>
          <a:blip r:embed="rId5"/>
          <a:stretch/>
        </p:blipFill>
        <p:spPr>
          <a:xfrm>
            <a:off x="520560" y="4111560"/>
            <a:ext cx="5558040" cy="39204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5" descr=""/>
          <p:cNvPicPr/>
          <p:nvPr/>
        </p:nvPicPr>
        <p:blipFill>
          <a:blip r:embed="rId6"/>
          <a:stretch/>
        </p:blipFill>
        <p:spPr>
          <a:xfrm>
            <a:off x="504720" y="4533840"/>
            <a:ext cx="5556240" cy="3920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5" descr=""/>
          <p:cNvPicPr/>
          <p:nvPr/>
        </p:nvPicPr>
        <p:blipFill>
          <a:blip r:embed="rId7"/>
          <a:stretch/>
        </p:blipFill>
        <p:spPr>
          <a:xfrm>
            <a:off x="631800" y="5019840"/>
            <a:ext cx="7645320" cy="89820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5" descr=""/>
          <p:cNvPicPr/>
          <p:nvPr/>
        </p:nvPicPr>
        <p:blipFill>
          <a:blip r:embed="rId8"/>
          <a:stretch/>
        </p:blipFill>
        <p:spPr>
          <a:xfrm>
            <a:off x="560520" y="5952960"/>
            <a:ext cx="5556240" cy="392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5" descr=""/>
          <p:cNvPicPr/>
          <p:nvPr/>
        </p:nvPicPr>
        <p:blipFill>
          <a:blip r:embed="rId9"/>
          <a:stretch/>
        </p:blipFill>
        <p:spPr>
          <a:xfrm>
            <a:off x="679320" y="6383160"/>
            <a:ext cx="555624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1" descr=""/>
          <p:cNvPicPr/>
          <p:nvPr/>
        </p:nvPicPr>
        <p:blipFill>
          <a:blip r:embed="rId1"/>
          <a:stretch/>
        </p:blipFill>
        <p:spPr>
          <a:xfrm>
            <a:off x="352440" y="785880"/>
            <a:ext cx="8439120" cy="23907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2" descr=""/>
          <p:cNvPicPr/>
          <p:nvPr/>
        </p:nvPicPr>
        <p:blipFill>
          <a:blip r:embed="rId2"/>
          <a:stretch/>
        </p:blipFill>
        <p:spPr>
          <a:xfrm>
            <a:off x="892080" y="3214800"/>
            <a:ext cx="7944120" cy="3362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5" descr=""/>
          <p:cNvPicPr/>
          <p:nvPr/>
        </p:nvPicPr>
        <p:blipFill>
          <a:blip r:embed="rId3"/>
          <a:stretch/>
        </p:blipFill>
        <p:spPr>
          <a:xfrm>
            <a:off x="638280" y="4181400"/>
            <a:ext cx="8280360" cy="39384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5" descr=""/>
          <p:cNvPicPr/>
          <p:nvPr/>
        </p:nvPicPr>
        <p:blipFill>
          <a:blip r:embed="rId4"/>
          <a:stretch/>
        </p:blipFill>
        <p:spPr>
          <a:xfrm>
            <a:off x="620640" y="4613400"/>
            <a:ext cx="8282160" cy="39204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5" descr=""/>
          <p:cNvPicPr/>
          <p:nvPr/>
        </p:nvPicPr>
        <p:blipFill>
          <a:blip r:embed="rId5"/>
          <a:stretch/>
        </p:blipFill>
        <p:spPr>
          <a:xfrm>
            <a:off x="604800" y="5099040"/>
            <a:ext cx="8280360" cy="392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5" descr=""/>
          <p:cNvPicPr/>
          <p:nvPr/>
        </p:nvPicPr>
        <p:blipFill>
          <a:blip r:embed="rId6"/>
          <a:stretch/>
        </p:blipFill>
        <p:spPr>
          <a:xfrm>
            <a:off x="587520" y="5592600"/>
            <a:ext cx="8281800" cy="39240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5" descr=""/>
          <p:cNvPicPr/>
          <p:nvPr/>
        </p:nvPicPr>
        <p:blipFill>
          <a:blip r:embed="rId7"/>
          <a:stretch/>
        </p:blipFill>
        <p:spPr>
          <a:xfrm>
            <a:off x="571680" y="6149880"/>
            <a:ext cx="8280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1" descr=""/>
          <p:cNvPicPr/>
          <p:nvPr/>
        </p:nvPicPr>
        <p:blipFill>
          <a:blip r:embed="rId1"/>
          <a:stretch/>
        </p:blipFill>
        <p:spPr>
          <a:xfrm>
            <a:off x="314280" y="857160"/>
            <a:ext cx="8515440" cy="58294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5" descr=""/>
          <p:cNvPicPr/>
          <p:nvPr/>
        </p:nvPicPr>
        <p:blipFill>
          <a:blip r:embed="rId2"/>
          <a:stretch/>
        </p:blipFill>
        <p:spPr>
          <a:xfrm>
            <a:off x="719280" y="888840"/>
            <a:ext cx="8281800" cy="39240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5" descr=""/>
          <p:cNvPicPr/>
          <p:nvPr/>
        </p:nvPicPr>
        <p:blipFill>
          <a:blip r:embed="rId3"/>
          <a:stretch/>
        </p:blipFill>
        <p:spPr>
          <a:xfrm>
            <a:off x="703440" y="1374840"/>
            <a:ext cx="8280360" cy="39204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5" descr=""/>
          <p:cNvPicPr/>
          <p:nvPr/>
        </p:nvPicPr>
        <p:blipFill>
          <a:blip r:embed="rId4"/>
          <a:stretch/>
        </p:blipFill>
        <p:spPr>
          <a:xfrm>
            <a:off x="614520" y="1860480"/>
            <a:ext cx="8281800" cy="3920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5" descr=""/>
          <p:cNvPicPr/>
          <p:nvPr/>
        </p:nvPicPr>
        <p:blipFill>
          <a:blip r:embed="rId5"/>
          <a:stretch/>
        </p:blipFill>
        <p:spPr>
          <a:xfrm>
            <a:off x="669960" y="2346480"/>
            <a:ext cx="828036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2" descr=""/>
          <p:cNvPicPr/>
          <p:nvPr/>
        </p:nvPicPr>
        <p:blipFill>
          <a:blip r:embed="rId1"/>
          <a:stretch/>
        </p:blipFill>
        <p:spPr>
          <a:xfrm>
            <a:off x="409680" y="833400"/>
            <a:ext cx="8324640" cy="581040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5" descr=""/>
          <p:cNvPicPr/>
          <p:nvPr/>
        </p:nvPicPr>
        <p:blipFill>
          <a:blip r:embed="rId2"/>
          <a:stretch/>
        </p:blipFill>
        <p:spPr>
          <a:xfrm>
            <a:off x="863640" y="4481640"/>
            <a:ext cx="8280360" cy="8906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5" descr=""/>
          <p:cNvPicPr/>
          <p:nvPr/>
        </p:nvPicPr>
        <p:blipFill>
          <a:blip r:embed="rId3"/>
          <a:stretch/>
        </p:blipFill>
        <p:spPr>
          <a:xfrm>
            <a:off x="649440" y="5372280"/>
            <a:ext cx="8280360" cy="8125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5" descr=""/>
          <p:cNvPicPr/>
          <p:nvPr/>
        </p:nvPicPr>
        <p:blipFill>
          <a:blip r:embed="rId4"/>
          <a:stretch/>
        </p:blipFill>
        <p:spPr>
          <a:xfrm>
            <a:off x="577800" y="6235560"/>
            <a:ext cx="828036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1" name="Picture 1" descr=""/>
          <p:cNvPicPr/>
          <p:nvPr/>
        </p:nvPicPr>
        <p:blipFill>
          <a:blip r:embed="rId1"/>
          <a:stretch/>
        </p:blipFill>
        <p:spPr>
          <a:xfrm>
            <a:off x="628560" y="1085760"/>
            <a:ext cx="7886880" cy="52009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5" descr=""/>
          <p:cNvPicPr/>
          <p:nvPr/>
        </p:nvPicPr>
        <p:blipFill>
          <a:blip r:embed="rId2"/>
          <a:stretch/>
        </p:blipFill>
        <p:spPr>
          <a:xfrm>
            <a:off x="511200" y="1111320"/>
            <a:ext cx="8280360" cy="3934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5" descr=""/>
          <p:cNvPicPr/>
          <p:nvPr/>
        </p:nvPicPr>
        <p:blipFill>
          <a:blip r:embed="rId3"/>
          <a:stretch/>
        </p:blipFill>
        <p:spPr>
          <a:xfrm>
            <a:off x="422280" y="1596960"/>
            <a:ext cx="8282160" cy="3938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5" descr=""/>
          <p:cNvPicPr/>
          <p:nvPr/>
        </p:nvPicPr>
        <p:blipFill>
          <a:blip r:embed="rId4"/>
          <a:stretch/>
        </p:blipFill>
        <p:spPr>
          <a:xfrm>
            <a:off x="495360" y="2100240"/>
            <a:ext cx="8280360" cy="3920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5" descr=""/>
          <p:cNvPicPr/>
          <p:nvPr/>
        </p:nvPicPr>
        <p:blipFill>
          <a:blip r:embed="rId5"/>
          <a:stretch/>
        </p:blipFill>
        <p:spPr>
          <a:xfrm>
            <a:off x="406440" y="2522520"/>
            <a:ext cx="8280360" cy="3920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5" descr=""/>
          <p:cNvPicPr/>
          <p:nvPr/>
        </p:nvPicPr>
        <p:blipFill>
          <a:blip r:embed="rId6"/>
          <a:stretch/>
        </p:blipFill>
        <p:spPr>
          <a:xfrm>
            <a:off x="477720" y="3008160"/>
            <a:ext cx="8282160" cy="39240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5" descr=""/>
          <p:cNvPicPr/>
          <p:nvPr/>
        </p:nvPicPr>
        <p:blipFill>
          <a:blip r:embed="rId7"/>
          <a:stretch/>
        </p:blipFill>
        <p:spPr>
          <a:xfrm>
            <a:off x="390600" y="3494160"/>
            <a:ext cx="8280360" cy="392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5" descr=""/>
          <p:cNvPicPr/>
          <p:nvPr/>
        </p:nvPicPr>
        <p:blipFill>
          <a:blip r:embed="rId8"/>
          <a:stretch/>
        </p:blipFill>
        <p:spPr>
          <a:xfrm>
            <a:off x="461880" y="3924360"/>
            <a:ext cx="8280360" cy="3920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5" descr=""/>
          <p:cNvPicPr/>
          <p:nvPr/>
        </p:nvPicPr>
        <p:blipFill>
          <a:blip r:embed="rId9"/>
          <a:stretch/>
        </p:blipFill>
        <p:spPr>
          <a:xfrm>
            <a:off x="372960" y="4410000"/>
            <a:ext cx="8282160" cy="3920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5" descr=""/>
          <p:cNvPicPr/>
          <p:nvPr/>
        </p:nvPicPr>
        <p:blipFill>
          <a:blip r:embed="rId10"/>
          <a:stretch/>
        </p:blipFill>
        <p:spPr>
          <a:xfrm>
            <a:off x="444600" y="4911840"/>
            <a:ext cx="8281800" cy="39348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5" descr=""/>
          <p:cNvPicPr/>
          <p:nvPr/>
        </p:nvPicPr>
        <p:blipFill>
          <a:blip r:embed="rId11"/>
          <a:stretch/>
        </p:blipFill>
        <p:spPr>
          <a:xfrm>
            <a:off x="357120" y="5397480"/>
            <a:ext cx="8280360" cy="3938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5" descr=""/>
          <p:cNvPicPr/>
          <p:nvPr/>
        </p:nvPicPr>
        <p:blipFill>
          <a:blip r:embed="rId12"/>
          <a:stretch/>
        </p:blipFill>
        <p:spPr>
          <a:xfrm>
            <a:off x="339840" y="5883120"/>
            <a:ext cx="828180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42920" y="731880"/>
            <a:ext cx="4146480" cy="60721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4786200" y="1604880"/>
            <a:ext cx="4200480" cy="5181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5" descr=""/>
          <p:cNvPicPr/>
          <p:nvPr/>
        </p:nvPicPr>
        <p:blipFill>
          <a:blip r:embed="rId3"/>
          <a:stretch/>
        </p:blipFill>
        <p:spPr>
          <a:xfrm>
            <a:off x="2411280" y="2517840"/>
            <a:ext cx="411120" cy="30780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2563920" y="2857680"/>
            <a:ext cx="411120" cy="3078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"/>
          <p:cNvPicPr/>
          <p:nvPr/>
        </p:nvPicPr>
        <p:blipFill>
          <a:blip r:embed="rId5"/>
          <a:stretch/>
        </p:blipFill>
        <p:spPr>
          <a:xfrm>
            <a:off x="714240" y="4152960"/>
            <a:ext cx="411120" cy="3063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5" descr=""/>
          <p:cNvPicPr/>
          <p:nvPr/>
        </p:nvPicPr>
        <p:blipFill>
          <a:blip r:embed="rId6"/>
          <a:stretch/>
        </p:blipFill>
        <p:spPr>
          <a:xfrm>
            <a:off x="2303640" y="4478400"/>
            <a:ext cx="411120" cy="3078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5" descr=""/>
          <p:cNvPicPr/>
          <p:nvPr/>
        </p:nvPicPr>
        <p:blipFill>
          <a:blip r:embed="rId7"/>
          <a:stretch/>
        </p:blipFill>
        <p:spPr>
          <a:xfrm>
            <a:off x="3554280" y="4813200"/>
            <a:ext cx="785880" cy="3063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5" descr=""/>
          <p:cNvPicPr/>
          <p:nvPr/>
        </p:nvPicPr>
        <p:blipFill>
          <a:blip r:embed="rId8"/>
          <a:stretch/>
        </p:blipFill>
        <p:spPr>
          <a:xfrm>
            <a:off x="428760" y="5143680"/>
            <a:ext cx="1000080" cy="3078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5" descr=""/>
          <p:cNvPicPr/>
          <p:nvPr/>
        </p:nvPicPr>
        <p:blipFill>
          <a:blip r:embed="rId9"/>
          <a:stretch/>
        </p:blipFill>
        <p:spPr>
          <a:xfrm>
            <a:off x="928800" y="6446880"/>
            <a:ext cx="928440" cy="3078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5" descr=""/>
          <p:cNvPicPr/>
          <p:nvPr/>
        </p:nvPicPr>
        <p:blipFill>
          <a:blip r:embed="rId10"/>
          <a:stretch/>
        </p:blipFill>
        <p:spPr>
          <a:xfrm>
            <a:off x="2428920" y="6456240"/>
            <a:ext cx="928800" cy="3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2" descr=""/>
          <p:cNvPicPr/>
          <p:nvPr/>
        </p:nvPicPr>
        <p:blipFill>
          <a:blip r:embed="rId1"/>
          <a:stretch/>
        </p:blipFill>
        <p:spPr>
          <a:xfrm>
            <a:off x="2500200" y="1071720"/>
            <a:ext cx="4152960" cy="52956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5" descr=""/>
          <p:cNvPicPr/>
          <p:nvPr/>
        </p:nvPicPr>
        <p:blipFill>
          <a:blip r:embed="rId2"/>
          <a:stretch/>
        </p:blipFill>
        <p:spPr>
          <a:xfrm>
            <a:off x="3946680" y="3071880"/>
            <a:ext cx="2857320" cy="3078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5" descr=""/>
          <p:cNvPicPr/>
          <p:nvPr/>
        </p:nvPicPr>
        <p:blipFill>
          <a:blip r:embed="rId3"/>
          <a:stretch/>
        </p:blipFill>
        <p:spPr>
          <a:xfrm>
            <a:off x="2286000" y="3406680"/>
            <a:ext cx="2857680" cy="3081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"/>
          <p:cNvPicPr/>
          <p:nvPr/>
        </p:nvPicPr>
        <p:blipFill>
          <a:blip r:embed="rId4"/>
          <a:stretch/>
        </p:blipFill>
        <p:spPr>
          <a:xfrm>
            <a:off x="2428920" y="3763800"/>
            <a:ext cx="2857320" cy="3081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5" descr=""/>
          <p:cNvPicPr/>
          <p:nvPr/>
        </p:nvPicPr>
        <p:blipFill>
          <a:blip r:embed="rId5"/>
          <a:stretch/>
        </p:blipFill>
        <p:spPr>
          <a:xfrm>
            <a:off x="3884760" y="5786280"/>
            <a:ext cx="2857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2" descr=""/>
          <p:cNvPicPr/>
          <p:nvPr/>
        </p:nvPicPr>
        <p:blipFill>
          <a:blip r:embed="rId1"/>
          <a:stretch/>
        </p:blipFill>
        <p:spPr>
          <a:xfrm>
            <a:off x="471600" y="1014480"/>
            <a:ext cx="8200800" cy="5486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5" descr=""/>
          <p:cNvPicPr/>
          <p:nvPr/>
        </p:nvPicPr>
        <p:blipFill>
          <a:blip r:embed="rId2"/>
          <a:stretch/>
        </p:blipFill>
        <p:spPr>
          <a:xfrm>
            <a:off x="5776920" y="2517840"/>
            <a:ext cx="428760" cy="3078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5" descr=""/>
          <p:cNvPicPr/>
          <p:nvPr/>
        </p:nvPicPr>
        <p:blipFill>
          <a:blip r:embed="rId3"/>
          <a:stretch/>
        </p:blipFill>
        <p:spPr>
          <a:xfrm>
            <a:off x="8001000" y="3732120"/>
            <a:ext cx="428760" cy="3081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5" descr=""/>
          <p:cNvPicPr/>
          <p:nvPr/>
        </p:nvPicPr>
        <p:blipFill>
          <a:blip r:embed="rId4"/>
          <a:stretch/>
        </p:blipFill>
        <p:spPr>
          <a:xfrm>
            <a:off x="1428840" y="5857920"/>
            <a:ext cx="12142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447840" y="1538280"/>
            <a:ext cx="8248320" cy="3781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5" descr=""/>
          <p:cNvPicPr/>
          <p:nvPr/>
        </p:nvPicPr>
        <p:blipFill>
          <a:blip r:embed="rId2"/>
          <a:stretch/>
        </p:blipFill>
        <p:spPr>
          <a:xfrm>
            <a:off x="1785960" y="2357280"/>
            <a:ext cx="428760" cy="5940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5" descr=""/>
          <p:cNvPicPr/>
          <p:nvPr/>
        </p:nvPicPr>
        <p:blipFill>
          <a:blip r:embed="rId3"/>
          <a:stretch/>
        </p:blipFill>
        <p:spPr>
          <a:xfrm>
            <a:off x="3054240" y="2482920"/>
            <a:ext cx="428760" cy="3078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5" descr=""/>
          <p:cNvPicPr/>
          <p:nvPr/>
        </p:nvPicPr>
        <p:blipFill>
          <a:blip r:embed="rId4"/>
          <a:stretch/>
        </p:blipFill>
        <p:spPr>
          <a:xfrm>
            <a:off x="642960" y="3857760"/>
            <a:ext cx="8215200" cy="5936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5" descr=""/>
          <p:cNvPicPr/>
          <p:nvPr/>
        </p:nvPicPr>
        <p:blipFill>
          <a:blip r:embed="rId5"/>
          <a:stretch/>
        </p:blipFill>
        <p:spPr>
          <a:xfrm>
            <a:off x="714240" y="4438800"/>
            <a:ext cx="8215560" cy="591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5" descr=""/>
          <p:cNvPicPr/>
          <p:nvPr/>
        </p:nvPicPr>
        <p:blipFill>
          <a:blip r:embed="rId6"/>
          <a:stretch/>
        </p:blipFill>
        <p:spPr>
          <a:xfrm>
            <a:off x="1214280" y="5072040"/>
            <a:ext cx="5000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"/>
          <p:cNvPicPr/>
          <p:nvPr/>
        </p:nvPicPr>
        <p:blipFill>
          <a:blip r:embed="rId1"/>
          <a:stretch/>
        </p:blipFill>
        <p:spPr>
          <a:xfrm>
            <a:off x="452520" y="1862280"/>
            <a:ext cx="8238960" cy="31334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5" descr=""/>
          <p:cNvPicPr/>
          <p:nvPr/>
        </p:nvPicPr>
        <p:blipFill>
          <a:blip r:embed="rId2"/>
          <a:stretch/>
        </p:blipFill>
        <p:spPr>
          <a:xfrm>
            <a:off x="8001000" y="2517840"/>
            <a:ext cx="42876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438120" y="1257480"/>
            <a:ext cx="8267760" cy="43434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5" descr=""/>
          <p:cNvPicPr/>
          <p:nvPr/>
        </p:nvPicPr>
        <p:blipFill>
          <a:blip r:embed="rId2"/>
          <a:stretch/>
        </p:blipFill>
        <p:spPr>
          <a:xfrm>
            <a:off x="7634160" y="1558800"/>
            <a:ext cx="1214640" cy="3081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5" descr=""/>
          <p:cNvPicPr/>
          <p:nvPr/>
        </p:nvPicPr>
        <p:blipFill>
          <a:blip r:embed="rId3"/>
          <a:stretch/>
        </p:blipFill>
        <p:spPr>
          <a:xfrm>
            <a:off x="588960" y="1866960"/>
            <a:ext cx="1214280" cy="3063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5" descr=""/>
          <p:cNvPicPr/>
          <p:nvPr/>
        </p:nvPicPr>
        <p:blipFill>
          <a:blip r:embed="rId4"/>
          <a:stretch/>
        </p:blipFill>
        <p:spPr>
          <a:xfrm>
            <a:off x="428760" y="4010040"/>
            <a:ext cx="5643360" cy="3063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5" descr=""/>
          <p:cNvPicPr/>
          <p:nvPr/>
        </p:nvPicPr>
        <p:blipFill>
          <a:blip r:embed="rId5"/>
          <a:stretch/>
        </p:blipFill>
        <p:spPr>
          <a:xfrm>
            <a:off x="428760" y="4335480"/>
            <a:ext cx="5643360" cy="3078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5" descr=""/>
          <p:cNvPicPr/>
          <p:nvPr/>
        </p:nvPicPr>
        <p:blipFill>
          <a:blip r:embed="rId6"/>
          <a:stretch/>
        </p:blipFill>
        <p:spPr>
          <a:xfrm>
            <a:off x="500040" y="4621320"/>
            <a:ext cx="5643720" cy="3078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5" descr=""/>
          <p:cNvPicPr/>
          <p:nvPr/>
        </p:nvPicPr>
        <p:blipFill>
          <a:blip r:embed="rId7"/>
          <a:stretch/>
        </p:blipFill>
        <p:spPr>
          <a:xfrm>
            <a:off x="652320" y="4916520"/>
            <a:ext cx="5643720" cy="3078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5" descr=""/>
          <p:cNvPicPr/>
          <p:nvPr/>
        </p:nvPicPr>
        <p:blipFill>
          <a:blip r:embed="rId8"/>
          <a:stretch/>
        </p:blipFill>
        <p:spPr>
          <a:xfrm>
            <a:off x="642960" y="5264280"/>
            <a:ext cx="564372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"/>
          <p:cNvPicPr/>
          <p:nvPr/>
        </p:nvPicPr>
        <p:blipFill>
          <a:blip r:embed="rId1"/>
          <a:stretch/>
        </p:blipFill>
        <p:spPr>
          <a:xfrm>
            <a:off x="309600" y="1700280"/>
            <a:ext cx="8524800" cy="345744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5" descr=""/>
          <p:cNvPicPr/>
          <p:nvPr/>
        </p:nvPicPr>
        <p:blipFill>
          <a:blip r:embed="rId2"/>
          <a:stretch/>
        </p:blipFill>
        <p:spPr>
          <a:xfrm>
            <a:off x="7964640" y="3890880"/>
            <a:ext cx="52200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285840" y="880920"/>
            <a:ext cx="8572320" cy="57628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5" descr=""/>
          <p:cNvPicPr/>
          <p:nvPr/>
        </p:nvPicPr>
        <p:blipFill>
          <a:blip r:embed="rId2"/>
          <a:stretch/>
        </p:blipFill>
        <p:spPr>
          <a:xfrm>
            <a:off x="7896240" y="2403360"/>
            <a:ext cx="522360" cy="393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5" descr=""/>
          <p:cNvPicPr/>
          <p:nvPr/>
        </p:nvPicPr>
        <p:blipFill>
          <a:blip r:embed="rId3"/>
          <a:stretch/>
        </p:blipFill>
        <p:spPr>
          <a:xfrm>
            <a:off x="7896240" y="5721480"/>
            <a:ext cx="865080" cy="393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5" descr=""/>
          <p:cNvPicPr/>
          <p:nvPr/>
        </p:nvPicPr>
        <p:blipFill>
          <a:blip r:embed="rId4"/>
          <a:stretch/>
        </p:blipFill>
        <p:spPr>
          <a:xfrm>
            <a:off x="993600" y="6208560"/>
            <a:ext cx="2129040" cy="3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2:40:03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